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0350-C6FF-4970-B2E3-AC618E8FE3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8423-FAD2-473F-8C03-DA56821F0F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42840" y="746280"/>
            <a:ext cx="4972320" cy="3728880"/>
          </a:xfrm>
          <a:prstGeom prst="rect">
            <a:avLst/>
          </a:prstGeom>
          <a:ln w="0">
            <a:noFill/>
          </a:ln>
        </p:spPr>
      </p:sp>
      <p:sp>
        <p:nvSpPr>
          <p:cNvPr id="1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AA62-A896-4C20-955F-12F060EFC9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942840" y="746280"/>
            <a:ext cx="4972320" cy="3728880"/>
          </a:xfrm>
          <a:prstGeom prst="rect">
            <a:avLst/>
          </a:prstGeom>
          <a:ln w="0">
            <a:noFill/>
          </a:ln>
        </p:spPr>
      </p:sp>
      <p:sp>
        <p:nvSpPr>
          <p:cNvPr id="1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4F20-3310-4BA5-B36D-C8CA9433C7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942840" y="746280"/>
            <a:ext cx="4972320" cy="3728880"/>
          </a:xfrm>
          <a:prstGeom prst="rect">
            <a:avLst/>
          </a:prstGeom>
          <a:ln w="0">
            <a:noFill/>
          </a:ln>
        </p:spPr>
      </p:sp>
      <p:sp>
        <p:nvSpPr>
          <p:cNvPr id="1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BC13-F599-4039-97D3-FFB61EA764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42840" y="746280"/>
            <a:ext cx="4972320" cy="3728880"/>
          </a:xfrm>
          <a:prstGeom prst="rect">
            <a:avLst/>
          </a:prstGeom>
          <a:ln w="0">
            <a:noFill/>
          </a:ln>
        </p:spPr>
      </p:sp>
      <p:sp>
        <p:nvSpPr>
          <p:cNvPr id="1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CBD5-9AC1-4FE4-BD48-ED56742CC4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42840" y="746280"/>
            <a:ext cx="4972320" cy="3728880"/>
          </a:xfrm>
          <a:prstGeom prst="rect">
            <a:avLst/>
          </a:prstGeom>
          <a:ln w="0">
            <a:noFill/>
          </a:ln>
        </p:spPr>
      </p:sp>
      <p:sp>
        <p:nvSpPr>
          <p:cNvPr id="1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FD6-2987-4656-870A-FA5731F51D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42840" y="746280"/>
            <a:ext cx="4972320" cy="3728880"/>
          </a:xfrm>
          <a:prstGeom prst="rect">
            <a:avLst/>
          </a:prstGeom>
          <a:ln w="0">
            <a:noFill/>
          </a:ln>
        </p:spPr>
      </p:sp>
      <p:sp>
        <p:nvSpPr>
          <p:cNvPr id="121" name="PlaceHolder 2"/>
          <p:cNvSpPr>
            <a:spLocks noGrp="1"/>
          </p:cNvSpPr>
          <p:nvPr>
            <p:ph type="body"/>
          </p:nvPr>
        </p:nvSpPr>
        <p:spPr>
          <a:xfrm>
            <a:off x="685800" y="4723920"/>
            <a:ext cx="5486400" cy="447516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the table, the pupils look for a pattern and find the relationship between the length, breadth, height and volume of the cube and cuboid.</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umber of cubes in each layer = ________ × _______  = ________</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Number of 1-cm cubes in _____ layers = _____ × _____ ×___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__</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Elicit from pupils that _____ × ______ × _____ is the same as multiplying the length by breadth by height of the cuboid.</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refore, the volume of a cuboid = ____×____ ×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 cm³</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Get pupils to conclude that </a:t>
            </a:r>
            <a:r>
              <a:rPr b="1" lang="en-US" sz="1200" spc="-1" strike="noStrike">
                <a:solidFill>
                  <a:srgbClr val="000000"/>
                </a:solidFill>
                <a:latin typeface="Arial"/>
                <a:ea typeface="MS Mincho"/>
              </a:rPr>
              <a:t>Volume of a cuboid = Length × Breadth × Height </a:t>
            </a:r>
            <a:r>
              <a:rPr b="0" lang="en-US" sz="1200" spc="-1" strike="noStrike">
                <a:solidFill>
                  <a:srgbClr val="000000"/>
                </a:solidFill>
                <a:latin typeface="Arial"/>
                <a:ea typeface="MS Mincho"/>
              </a:rPr>
              <a:t>and</a:t>
            </a:r>
            <a:r>
              <a:rPr b="1" lang="en-US" sz="1200" spc="-1" strike="noStrike">
                <a:solidFill>
                  <a:srgbClr val="000000"/>
                </a:solidFill>
                <a:latin typeface="Arial"/>
                <a:ea typeface="MS Mincho"/>
              </a:rPr>
              <a:t> Volume of a cube = Edge x Edge x Ed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upils are to verbalise their reasoning in the correct mathematical langua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Pupils will then verify the rule with the given cube and cuboid. This time, the pupils will use the formula to find the volume before verifying the answer by counting the number of 1-cm cubes.</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B205-FAA6-4B8C-9BEE-04190926F1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42840" y="746280"/>
            <a:ext cx="4972320" cy="3728880"/>
          </a:xfrm>
          <a:prstGeom prst="rect">
            <a:avLst/>
          </a:prstGeom>
          <a:ln w="0">
            <a:noFill/>
          </a:ln>
        </p:spPr>
      </p:sp>
      <p:sp>
        <p:nvSpPr>
          <p:cNvPr id="1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F75C0-C3D7-409B-909C-41403CC0E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B1AF-D095-4172-AF7C-EBD4657E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A6F3D-121E-4E1F-813D-399DEB8A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5520F-4825-425A-B0E1-3526038BF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855B9-E8F8-4B92-8964-E33783B47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FFEC1-C97B-47C2-9520-954AF7FB7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562C2-C307-4182-9579-12998350C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1CCE8-1B83-4FDC-B62C-EE4A84329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432B7-FA43-4674-BFB0-836A37429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2CF83-D911-4C3C-A58B-F20732997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88FB8-DF62-44D2-A023-048FEDF15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5B48-7BEB-4C59-96B8-61FD28283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8BEF4-39EC-420A-B8BB-E65C4A5DE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08249-EC3A-4A04-8FE6-34CA7939B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AA2FF-0915-4305-8DF7-C72F04BAD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47244-A0A1-4BB4-9E53-7D8FB385C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62518-3FE5-4F2C-A875-787E2BEDF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507D-7839-4CF0-A0F2-8D49AE8D5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433FF-F3F3-45A4-BE37-A1355D08D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5E53-5059-404C-ABC0-CB941AF2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F72E4-EC93-4426-9CBE-7253F94C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0B386-7CCB-43EF-A5CB-41B6A324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D5F3-1656-4B00-9094-BA8355B7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816D-9593-4BCD-8C7B-0960E3504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IMG_2115v2"/>
          <p:cNvPicPr/>
          <p:nvPr/>
        </p:nvPicPr>
        <p:blipFill>
          <a:blip r:embed="rId2"/>
          <a:stretch/>
        </p:blipFill>
        <p:spPr>
          <a:xfrm>
            <a:off x="0" y="-414360"/>
            <a:ext cx="9144000" cy="75661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CC7D-45FE-4080-B3CB-511B9DB1D2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IMG_2115"/>
          <p:cNvPicPr/>
          <p:nvPr/>
        </p:nvPicPr>
        <p:blipFill>
          <a:blip r:embed="rId2"/>
          <a:stretch/>
        </p:blipFill>
        <p:spPr>
          <a:xfrm>
            <a:off x="0" y="-709560"/>
            <a:ext cx="9144000" cy="75675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8644-C27F-4B86-B6B3-1D6F217FEE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3.bp.blogspot.com/-3fyxOwF3eY0/T0RDvGEUlBI/AAAAAAAACe8/DfS8NVrASJ0/s1600/cubic+units.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77600"/>
            <a:ext cx="7772400" cy="29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Bradley Hand ITC"/>
              </a:rPr>
              <a:t>Volume </a:t>
            </a:r>
            <a:br>
              <a:rPr sz="9600"/>
            </a:br>
            <a:r>
              <a:rPr b="1" lang="en-GB" sz="6000" spc="-1" strike="noStrike">
                <a:solidFill>
                  <a:srgbClr val="000000"/>
                </a:solidFill>
                <a:latin typeface="Bradley Hand ITC"/>
              </a:rPr>
              <a:t>Cube and Cuboid</a:t>
            </a:r>
            <a:endParaRPr b="0" lang="en-US" sz="6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07880" y="376200"/>
            <a:ext cx="8229600" cy="4875120"/>
          </a:xfrm>
          <a:prstGeom prst="rect">
            <a:avLst/>
          </a:prstGeom>
          <a:noFill/>
          <a:ln w="0">
            <a:noFill/>
          </a:ln>
        </p:spPr>
        <p:txBody>
          <a:bodyPr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Instructional Objectives</a:t>
            </a:r>
            <a:r>
              <a:rPr b="1" lang="en-US" sz="3200" spc="-1" strike="noStrike">
                <a:solidFill>
                  <a:srgbClr val="000000"/>
                </a:solidFill>
                <a:latin typeface="Bradley Hand ITC"/>
              </a:rPr>
              <a:t> </a:t>
            </a:r>
            <a:endParaRPr b="0" lang="en-US" sz="32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the end of the lesson, the pupils will be able to: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build solids with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unt the number of unit cubes in a solid made up of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see a pattern and come up with a rule for finding the volume of a cube and cuboid</a:t>
            </a: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07880" y="326520"/>
            <a:ext cx="8229600" cy="45262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Tuning-In Activity (Whole Class) :</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e are all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oid are rectangles or / and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Unit cube is a single cub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4" descr="Description: http://3.bp.blogspot.com/-3fyxOwF3eY0/T0RDvGEUlBI/AAAAAAAACe8/DfS8NVrASJ0/s200/cubic+units.JPG">
            <a:hlinkClick r:id="rId1"/>
          </p:cNvPr>
          <p:cNvPicPr/>
          <p:nvPr/>
        </p:nvPicPr>
        <p:blipFill>
          <a:blip r:embed="rId2"/>
          <a:stretch/>
        </p:blipFill>
        <p:spPr>
          <a:xfrm>
            <a:off x="5373720" y="3174840"/>
            <a:ext cx="2917800" cy="223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06520" y="352080"/>
            <a:ext cx="8229600" cy="5405400"/>
          </a:xfrm>
          <a:prstGeom prst="rect">
            <a:avLst/>
          </a:prstGeom>
          <a:noFill/>
          <a:ln w="0">
            <a:noFill/>
          </a:ln>
        </p:spPr>
        <p:txBody>
          <a:bodyPr anchor="t">
            <a:normAutofit fontScale="94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Development : </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Group work : Student –only  Activity)</a:t>
            </a:r>
            <a:endParaRPr b="0" lang="en-US" sz="36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Pupils work in groups of fiv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ill the bottom  of the box with a layer of cub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the number of cubes used.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Add another layer of cubes until the box is filled.</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of the number of cubes in the box with each layer added. </a:t>
            </a: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4" descr=""/>
          <p:cNvPicPr/>
          <p:nvPr/>
        </p:nvPicPr>
        <p:blipFill>
          <a:blip r:embed="rId1"/>
          <a:stretch/>
        </p:blipFill>
        <p:spPr>
          <a:xfrm>
            <a:off x="6184800" y="1619280"/>
            <a:ext cx="1636920" cy="1968480"/>
          </a:xfrm>
          <a:prstGeom prst="rect">
            <a:avLst/>
          </a:prstGeom>
          <a:ln w="0">
            <a:noFill/>
          </a:ln>
        </p:spPr>
      </p:pic>
      <p:pic>
        <p:nvPicPr>
          <p:cNvPr id="97" name="Picture 7" descr=""/>
          <p:cNvPicPr/>
          <p:nvPr/>
        </p:nvPicPr>
        <p:blipFill>
          <a:blip r:embed="rId2"/>
          <a:stretch/>
        </p:blipFill>
        <p:spPr>
          <a:xfrm>
            <a:off x="6657840" y="3897360"/>
            <a:ext cx="2149560" cy="136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52360"/>
            <a:ext cx="8229600" cy="5492880"/>
          </a:xfrm>
          <a:prstGeom prst="rect">
            <a:avLst/>
          </a:prstGeom>
          <a:noFill/>
          <a:ln w="0">
            <a:noFill/>
          </a:ln>
        </p:spPr>
        <p:txBody>
          <a:bodyPr anchor="t">
            <a:normAutofit fontScale="95000"/>
          </a:bodyPr>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nstruct the same shape without the box. </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cord in the table provided the number of cubes  that  are used (volume), length, breadth and height of the figure formed.</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peat the activity with two other boxes and record the findings. </a:t>
            </a: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4" descr=""/>
          <p:cNvPicPr/>
          <p:nvPr/>
        </p:nvPicPr>
        <p:blipFill>
          <a:blip r:embed="rId1"/>
          <a:stretch/>
        </p:blipFill>
        <p:spPr>
          <a:xfrm>
            <a:off x="6904080" y="117360"/>
            <a:ext cx="1908000" cy="1554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52440"/>
            <a:ext cx="8229600" cy="5479920"/>
          </a:xfrm>
          <a:prstGeom prst="rect">
            <a:avLst/>
          </a:prstGeom>
          <a:noFill/>
          <a:ln w="12600">
            <a:solidFill>
              <a:srgbClr val="0070c0"/>
            </a:solidFill>
            <a:miter/>
          </a:ln>
        </p:spPr>
        <p:txBody>
          <a:bodyPr anchor="t">
            <a:normAutofit fontScale="84000"/>
          </a:bodyPr>
          <a:p>
            <a:pPr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1" lang="en-US" sz="2000" spc="-1" strike="noStrike">
                <a:solidFill>
                  <a:srgbClr val="000000"/>
                </a:solidFill>
                <a:latin typeface="Bradley Hand ITC"/>
              </a:rPr>
              <a:t>Come up with a rule for finding the volume of a cube and cuboid.</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Verify the rule with the given cube and cuboid.  Record the findings in the excel table.</a:t>
            </a: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3"/>
          <p:cNvSpPr/>
          <p:nvPr/>
        </p:nvSpPr>
        <p:spPr>
          <a:xfrm>
            <a:off x="716040" y="1890720"/>
            <a:ext cx="7477200" cy="111132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ffffff"/>
                </a:solidFill>
                <a:latin typeface="Bradley Hand ITC"/>
              </a:rPr>
              <a:t>Volume of a cube  =  Edge ×Edge × Edge </a:t>
            </a:r>
            <a:endParaRPr b="0" lang="en-US" sz="3200" spc="-1" strike="noStrike">
              <a:solidFill>
                <a:srgbClr val="000000"/>
              </a:solidFill>
              <a:latin typeface="Arial"/>
            </a:endParaRPr>
          </a:p>
        </p:txBody>
      </p:sp>
      <p:sp>
        <p:nvSpPr>
          <p:cNvPr id="102" name="Rectangle 6"/>
          <p:cNvSpPr/>
          <p:nvPr/>
        </p:nvSpPr>
        <p:spPr>
          <a:xfrm>
            <a:off x="649440" y="3171960"/>
            <a:ext cx="7988040" cy="100476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ffffff"/>
                </a:solidFill>
                <a:latin typeface="Bradley Hand ITC"/>
              </a:rPr>
              <a:t>Volume of a cuboid =  Length × Breadth × Heigh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ffffff"/>
                </a:solidFill>
                <a:latin typeface="Bradley Hand ITC"/>
              </a:rPr>
              <a:t>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06520" y="154080"/>
            <a:ext cx="8229600" cy="5022720"/>
          </a:xfrm>
          <a:prstGeom prst="rect">
            <a:avLst/>
          </a:prstGeom>
          <a:noFill/>
          <a:ln w="0">
            <a:noFill/>
          </a:ln>
        </p:spPr>
        <p:txBody>
          <a:bodyPr anchor="t">
            <a:normAutofit fontScale="86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losure:</a:t>
            </a:r>
            <a:endParaRPr b="0" lang="en-US" sz="4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Explain findings</a:t>
            </a:r>
            <a:r>
              <a:rPr b="1" lang="en-US" sz="2000" spc="-1" strike="noStrike">
                <a:solidFill>
                  <a:srgbClr val="0e2f67"/>
                </a:solidFill>
                <a:latin typeface="Bradley Hand ITC"/>
              </a:rPr>
              <a:t> .</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Watch a video  and note down what they have learnt  in  the  3-2-1 </a:t>
            </a:r>
            <a:r>
              <a:rPr b="1" lang="en-US" sz="2000" spc="-1" strike="noStrike">
                <a:solidFill>
                  <a:srgbClr val="002060"/>
                </a:solidFill>
                <a:latin typeface="Bradley Hand ITC"/>
              </a:rPr>
              <a:t>exit card </a:t>
            </a:r>
            <a:r>
              <a:rPr b="1" lang="en-US" sz="2000" spc="-1" strike="noStrike">
                <a:solidFill>
                  <a:srgbClr val="000000"/>
                </a:solidFill>
                <a:latin typeface="Bradley Hand ITC"/>
              </a:rPr>
              <a:t>.(Individual Work)</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http://studyjams.scholastic.com/studyjams/jams/math/measurement/volume.htm)</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Do an illumination activity to explore the volume of a cube and cuboid further . (Individual homework)</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http://illuminations.nctm.org/ActivityDetail.aspx?ID=6)</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Presentation Magazine</dc:creator>
  <dc:description/>
  <dc:language>en-US</dc:language>
  <cp:lastModifiedBy>Yeo Choon Kuan Nee Tan P L</cp:lastModifiedBy>
  <cp:lastPrinted>2013-05-29T17:17:57Z</cp:lastPrinted>
  <dcterms:modified xsi:type="dcterms:W3CDTF">2013-08-08T04:17:43Z</dcterms:modified>
  <cp:revision>53</cp:revision>
  <dc:subject/>
  <dc:title>Pencils template</dc:title>
</cp:coreProperties>
</file>